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B2B-82B9-4BAE-B499-F02BF47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948-DC22-4351-B736-8B678E57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5C6-EA5E-4D04-804E-CCF0332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B9A-8E8D-440B-8D8B-D8D67176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4F2-87F8-47B5-9A97-6F4DF421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E3C-1A9C-476B-9AED-54C7466F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C5A-421A-4900-BB06-55B3509B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759-E022-41E8-9C0B-CD737FC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696-14FB-4769-B241-044B6794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3B1-D09A-44A1-B69D-D018127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AE6-EEA8-4F07-9074-F96663D9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A29-23F9-4EA9-BFCB-6831844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DC86A-F3A3-4F82-AA3F-FDC4350A4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D68A6-BA1E-4D09-9349-9936964F5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GC and ESIP Discover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an’t we all just get along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ristopher Ly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44040" y="3143160"/>
            <a:ext cx="561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Return to IAN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exte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44360" y="3589200"/>
            <a:ext cx="88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type="application/opendap+x-netcdf" 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44360" y="3189240"/>
            <a:ext cx="8839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Return to IANA rel + Add ESIP-specific attributes + exte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44360" y="3589200"/>
            <a:ext cx="883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erviceProtocol=“http://xml.opendap.org/ns/DAP/3.3#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type="application/opendap+x-netcdf" 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isions, Dec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330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ime in Atom response to use Dublin C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SIP-Specific attributes to &lt;link&gt;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 mime-type to indicat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more directly with OG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.B.: their constituency is a superset of our constituency, BUT their tools are a subset of ou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more directly with OS Geo or GENESI-D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IP Discovery Clu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working group of server and client develop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Geospatial Consortium (OG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, addresses many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 documents available only to OGC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Source Geospatial Foundation (OSGe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ing OpenSearch spec. development in O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SI-D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Orgs with Earth Observation reposi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and promoting OpenSearch for Earth Observations along OSGeo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8252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1: Codifies basic response. Status=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2: Proposed extension of rel field to codify OPeNDAP links. Status = withdra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CP-3: Rework of DCP-1 and DCP-2. Reverts to IANA standards for rel, but adds new attributes to codify specific links. Status=under deb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Search Geospatial Extensions Draft Implementation Stand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0.0.1 available, but supers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0.0.2 moving toward approval, but not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Similarities between OGC and ESIP Discovery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s in Open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hasis on Atom respons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geospatial query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geospatial respons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on of temporal query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search suppo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called out as such in OGC sp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Differences in Atom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" y="1600200"/>
          <a:ext cx="8686800" cy="3489480"/>
        </p:xfrm>
        <a:graphic>
          <a:graphicData uri="http://schemas.openxmlformats.org/drawingml/2006/table">
            <a:tbl>
              <a:tblPr/>
              <a:tblGrid>
                <a:gridCol w="1555560"/>
                <a:gridCol w="3417840"/>
                <a:gridCol w="371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IP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GC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rpose temporal extension to OpenSearch: &lt;time:start&gt;2011-01-0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time:start&gt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time:end&gt;2011-01-0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time:en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lin 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dc:date&gt;2011-01-01/2011-01-0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/dc:dat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P namespace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NA-based, except OGC namespace for OGC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902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382760" y="3278160"/>
            <a:ext cx="593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SIP-specific value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7200" y="3895560"/>
            <a:ext cx="852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”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41520" y="3278160"/>
            <a:ext cx="7421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Define new ESIP-specific value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57200" y="3895560"/>
            <a:ext cx="852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"http://esipfed.org/ns/discovery/1.1/data#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rel=“http://xml.opendap.org/ns/DAP/3.3#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 Iden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902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1 (to be deprec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DCP-2 (withdra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P-3 (under deb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mime-type approach (new! and improve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8160" y="3143160"/>
            <a:ext cx="754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Return to IANA rel + Add ESIP-specific attrib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44360" y="3589200"/>
            <a:ext cx="883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my/file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”enclosure”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PeND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link href="http://host.com/opendap/file.hdf.nc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rel=“enclosure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ubrel=“http://esipfed.org/ns/discovery/1.1/data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ndale Mono"/>
                <a:ea typeface="Andale Mono"/>
              </a:rPr>
              <a:t>esip:serviceProtocol=“http://xml.opendap.org/ns/DAP/3.3#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type="application/x-netcdf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5:49:23Z</dcterms:created>
  <dc:creator>Christopher Lynnes</dc:creator>
  <dc:description/>
  <dc:language>en-US</dc:language>
  <cp:lastModifiedBy>Christopher Lynnes</cp:lastModifiedBy>
  <dcterms:modified xsi:type="dcterms:W3CDTF">2012-01-05T02:32:11Z</dcterms:modified>
  <cp:revision>6</cp:revision>
  <dc:subject/>
  <dc:title>OGC and ESIP Discovery or</dc:title>
</cp:coreProperties>
</file>